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5AAA-9E51-447A-B95A-04FEEAF2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FAA3-620D-44A9-9F7E-E1C6452F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B7C7-831D-44DA-B9C2-E43FDC2E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CFE8-BAE3-46A7-BF36-0A8CAABF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1E81-28B7-40D8-BC15-DC320EF9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6115-E0D7-4C4C-A419-2A728693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9EA3-C8F0-40B1-BA8A-84108701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65F2-436B-4316-94BF-25C2C11C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C89F-0AEE-4187-8558-AE2918B5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FE36-CB71-4417-BE29-EE7DFC6C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308E-FCC7-4047-87BA-7F536E58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5965-66B7-4301-9CEA-7C88F942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DFC1-79BB-4898-AAFB-4B69856AA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liciapatterson.org/APF1804/Weinberg/Weinberg01.jpg&amp;imgrefurl=http://www.aliciapatterson.org/APF1804/Weinberg/Weinberg.html&amp;h=1239&amp;w=861&amp;sz=134&amp;tbnid=uHgn9Jec4XTqZM:&amp;tbnh=150&amp;tbnw=104&amp;hl=en&amp;start=1&amp;prev=/images?q=ida+tarbell&amp;svnum=10&amp;hl=en&amp;lr=&amp;sa=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online-literature.com/authorpics/upton_sinclair.jpg&amp;imgrefurl=http://www.online-literature.com/upton_sinclair/&amp;h=215&amp;w=140&amp;sz=12&amp;tbnid=TkbS8-V_vpbEXM:&amp;tbnh=101&amp;tbnw=65&amp;hl=en&amp;start=1&amp;prev=/images?q=upton+sinclair&amp;svnum=10&amp;hl=en&amp;lr=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rxists.org/glossary/people/k/pics/kelley-florence.jpg&amp;imgrefurl=http://www.marxists.org/glossary/people/album/index24.htm&amp;h=246&amp;w=165&amp;sz=13&amp;tbnid=FQ_TBzMloKlWhM:&amp;tbnh=105&amp;tbnw=70&amp;hl=en&amp;start=5&amp;prev=/images?q=florence+kelley&amp;svnum=10&amp;hl=en&amp;lr=&amp;sa=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ises.org/images3/unionbutton.gif&amp;imgrefurl=http://www.mises.org/fullstory.asp?control=1343&amp;h=238&amp;w=237&amp;sz=32&amp;tbnid=623-REcYX_oOyM:&amp;tbnh=104&amp;tbnw=103&amp;hl=en&amp;start=16&amp;prev=/images?q=labor+unions&amp;svnum=10&amp;hl=en&amp;lr=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anarchosyndicalism.net/images/iww/allworkers.gif&amp;imgrefurl=http://www.anarchosyndicalism.net/images/iww/&amp;h=521&amp;w=502&amp;sz=105&amp;tbnid=O44SDeKTDU3FXM:&amp;tbnh=129&amp;tbnw=124&amp;hl=en&amp;start=1&amp;prev=/images?q=IWW&amp;svnum=10&amp;hl=en&amp;lr=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freepages.genealogy.rootsweb.com/~nepaphotos/images/ilgwu.jpg&amp;imgrefurl=http://freepages.genealogy.rootsweb.com/~nepaphotos/events.htm&amp;h=556&amp;w=650&amp;sz=80&amp;tbnid=jF0uiY88DX0jlM:&amp;tbnh=115&amp;tbnw=135&amp;hl=en&amp;start=2&amp;prev=/images?q=ILGWU&amp;svnum=10&amp;hl=en&amp;lr=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ihs.org/images/page-spec/abe-prohibition-poster.jpg&amp;imgrefurl=http://nu50.blogspot.com/2005_09_01_nu50_archive.html&amp;h=186&amp;w=145&amp;sz=23&amp;tbnid=6qBovv6z522YwM:&amp;tbnh=97&amp;tbnw=75&amp;hl=en&amp;start=4&amp;prev=/images?q=prohibition&amp;svnum=10&amp;hl=en&amp;lr=&amp;sa=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multimedialearning.org/presentations/present15/slide5.jpg&amp;imgrefurl=http://multimedialearning.org/presentations/progressive.php3&amp;h=274&amp;w=365&amp;sz=48&amp;tbnid=R5yM7oWi_FGxgM:&amp;tbnh=88&amp;tbnw=118&amp;hl=en&amp;start=8&amp;prev=/images?q=progressive+era&amp;svnum=10&amp;hl=en&amp;lr=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57200" y="457200"/>
            <a:ext cx="8267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Chapter 18 - The Age of Reform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12"/>
          <p:cNvSpPr txBox="1"/>
          <p:nvPr/>
        </p:nvSpPr>
        <p:spPr>
          <a:xfrm>
            <a:off x="304920" y="2286000"/>
            <a:ext cx="6762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The Progressive Movemen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1678680" y="1295280"/>
            <a:ext cx="344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pulism = Rural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essivism = Urban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2121480" y="308448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 &amp; upper class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jump on board!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15"/>
          <p:cNvSpPr txBox="1"/>
          <p:nvPr/>
        </p:nvSpPr>
        <p:spPr>
          <a:xfrm>
            <a:off x="838080" y="3962520"/>
            <a:ext cx="4676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rogressive issu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Text Box 16"/>
          <p:cNvSpPr/>
          <p:nvPr/>
        </p:nvSpPr>
        <p:spPr>
          <a:xfrm>
            <a:off x="2199240" y="4608360"/>
            <a:ext cx="549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m the workplac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monopolies &amp; trusts! (reduce corporate pow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issues: elections, education, e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12"/>
          <p:cNvSpPr txBox="1"/>
          <p:nvPr/>
        </p:nvSpPr>
        <p:spPr>
          <a:xfrm>
            <a:off x="609480" y="457200"/>
            <a:ext cx="2686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spira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1147680" y="1219320"/>
            <a:ext cx="61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ive journalists join in the fight!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ckrakers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unsey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, Everybody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cClure</a:t>
            </a:r>
            <a:r>
              <a:rPr b="1" i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 Magaz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ld of corruption in politics and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awareness of social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14"/>
          <p:cNvSpPr txBox="1"/>
          <p:nvPr/>
        </p:nvSpPr>
        <p:spPr>
          <a:xfrm>
            <a:off x="1295280" y="2666880"/>
            <a:ext cx="1971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da Tarbell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1835280" y="3429000"/>
            <a:ext cx="44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of the Standard Oil Compan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Hero!! Allegheny College, Titus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or of the Trus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7" descr="Weinberg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2057400"/>
            <a:ext cx="1532160" cy="2209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upton_sinclai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4343400"/>
            <a:ext cx="1324080" cy="2057400"/>
          </a:xfrm>
          <a:prstGeom prst="rect">
            <a:avLst/>
          </a:prstGeom>
          <a:ln w="0">
            <a:noFill/>
          </a:ln>
        </p:spPr>
      </p:pic>
      <p:sp>
        <p:nvSpPr>
          <p:cNvPr id="53" name="WordArt 20"/>
          <p:cNvSpPr txBox="1"/>
          <p:nvPr/>
        </p:nvSpPr>
        <p:spPr>
          <a:xfrm>
            <a:off x="1295280" y="4648320"/>
            <a:ext cx="261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Upton Sinclai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2118240" y="5141880"/>
            <a:ext cx="15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u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11"/>
          <p:cNvSpPr txBox="1"/>
          <p:nvPr/>
        </p:nvSpPr>
        <p:spPr>
          <a:xfrm>
            <a:off x="457200" y="533520"/>
            <a:ext cx="6286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Reforming the Workplac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1530720" y="1219320"/>
            <a:ext cx="72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 &amp; child labor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pay, safer conditions, shorter days, no children, minimum w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angle Shirtwaist F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3"/>
          <p:cNvSpPr txBox="1"/>
          <p:nvPr/>
        </p:nvSpPr>
        <p:spPr>
          <a:xfrm>
            <a:off x="990720" y="2514600"/>
            <a:ext cx="2847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lorence Kelley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WordArt 14"/>
          <p:cNvSpPr txBox="1"/>
          <p:nvPr/>
        </p:nvSpPr>
        <p:spPr>
          <a:xfrm>
            <a:off x="304920" y="4114800"/>
            <a:ext cx="8267760" cy="5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rogressivism &amp; the S.C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536840" y="4800600"/>
            <a:ext cx="4493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porations fight bac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mendm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s property, righ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dom of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uller v. Ore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uis Brandeis (Brandeis Bri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7" descr="kelley-floren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2057400"/>
            <a:ext cx="1117800" cy="167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10"/>
          <p:cNvSpPr txBox="1"/>
          <p:nvPr/>
        </p:nvSpPr>
        <p:spPr>
          <a:xfrm>
            <a:off x="685800" y="457200"/>
            <a:ext cx="3295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abor Un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1753200" y="13716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ed 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12"/>
          <p:cNvSpPr txBox="1"/>
          <p:nvPr/>
        </p:nvSpPr>
        <p:spPr>
          <a:xfrm>
            <a:off x="1752480" y="3124080"/>
            <a:ext cx="3133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amuel Gomper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WordArt 13"/>
          <p:cNvSpPr txBox="1"/>
          <p:nvPr/>
        </p:nvSpPr>
        <p:spPr>
          <a:xfrm>
            <a:off x="1295280" y="2209680"/>
            <a:ext cx="9622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FL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2655360" y="2322360"/>
            <a:ext cx="33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merican Federation of Lab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15"/>
          <p:cNvSpPr txBox="1"/>
          <p:nvPr/>
        </p:nvSpPr>
        <p:spPr>
          <a:xfrm>
            <a:off x="1295280" y="3886200"/>
            <a:ext cx="17049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LGWU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3418560" y="40752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ernational Ladie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arment Workers Un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17"/>
          <p:cNvSpPr txBox="1"/>
          <p:nvPr/>
        </p:nvSpPr>
        <p:spPr>
          <a:xfrm>
            <a:off x="1295280" y="4952880"/>
            <a:ext cx="10954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WW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2729880" y="506556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dustrial Workers of the Wor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2802600" y="5599080"/>
            <a:ext cx="32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iam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 Bill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yw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bb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1" descr="unionbutt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45720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allworker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4724280"/>
            <a:ext cx="1611360" cy="1676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5" descr="ilgwu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24480" y="2209680"/>
            <a:ext cx="1905120" cy="1622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9"/>
          <p:cNvSpPr txBox="1"/>
          <p:nvPr/>
        </p:nvSpPr>
        <p:spPr>
          <a:xfrm>
            <a:off x="457200" y="533520"/>
            <a:ext cx="459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Reforming City Lif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591200" y="1332000"/>
            <a:ext cx="683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50% of pop. Living in 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ing, sanitation, police &amp; fire protection, education, re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wrence Ve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Y Tenement House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urnh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ty planning (Chica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11"/>
          <p:cNvSpPr txBox="1"/>
          <p:nvPr/>
        </p:nvSpPr>
        <p:spPr>
          <a:xfrm>
            <a:off x="533520" y="3352680"/>
            <a:ext cx="33433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oral Refor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1815480" y="4227480"/>
            <a:ext cx="666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hibition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ned the manufacture, sale &amp; transporta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ic bever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man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Christian Temperance Union (WCT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4" descr="abe-prohibition-post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419720"/>
            <a:ext cx="1295280" cy="1676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slide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2209680"/>
            <a:ext cx="2286000" cy="1704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380880" y="457200"/>
            <a:ext cx="534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Racial Discrimina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591560" y="1332000"/>
            <a:ext cx="67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progressives do not want to include min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minorities do succeed, but major change is decades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990720" y="2133720"/>
            <a:ext cx="2962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.E.B. Du Boi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WordArt 7"/>
          <p:cNvSpPr txBox="1"/>
          <p:nvPr/>
        </p:nvSpPr>
        <p:spPr>
          <a:xfrm>
            <a:off x="533520" y="3124080"/>
            <a:ext cx="17715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AACP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2369160" y="3276720"/>
            <a:ext cx="645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ational Association for the Advancement of Colored Peo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9"/>
          <p:cNvSpPr txBox="1"/>
          <p:nvPr/>
        </p:nvSpPr>
        <p:spPr>
          <a:xfrm>
            <a:off x="533520" y="4114800"/>
            <a:ext cx="5734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ational Urban Leagu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WordArt 10"/>
          <p:cNvSpPr txBox="1"/>
          <p:nvPr/>
        </p:nvSpPr>
        <p:spPr>
          <a:xfrm>
            <a:off x="228600" y="5029200"/>
            <a:ext cx="7029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ociety of American Indian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2363040" y="594360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Americ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thorpe"/>
          <p:cNvPicPr/>
          <p:nvPr/>
        </p:nvPicPr>
        <p:blipFill>
          <a:blip r:embed="rId1"/>
          <a:stretch/>
        </p:blipFill>
        <p:spPr>
          <a:xfrm>
            <a:off x="7620120" y="4800600"/>
            <a:ext cx="1211040" cy="160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6:56:15Z</dcterms:created>
  <dc:creator>Nate and Babies</dc:creator>
  <dc:description/>
  <dc:language>en-US</dc:language>
  <cp:lastModifiedBy>PA Department of Education Classrooms for the Future</cp:lastModifiedBy>
  <dcterms:modified xsi:type="dcterms:W3CDTF">2012-03-14T01:57:59Z</dcterms:modified>
  <cp:revision>16</cp:revision>
  <dc:subject/>
  <dc:title>Slide 1</dc:title>
</cp:coreProperties>
</file>